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891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891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201680" y="667800"/>
            <a:ext cx="4456080" cy="334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3"/>
          </p:nvPr>
        </p:nvSpPr>
        <p:spPr>
          <a:xfrm>
            <a:off x="-360" y="84657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4"/>
          </p:nvPr>
        </p:nvSpPr>
        <p:spPr>
          <a:xfrm>
            <a:off x="3885840" y="84657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5E46-953E-4FC6-9E96-BAC557A007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-Architektur und Middlewareberatung, wobei dies nie vollständig von den Prozessthemen getrennt werden kan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benbei habe ich mit Open-Source Entwicklung, Agilen Prozessen und Managementtechniken beschäftig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 folgenden betrachten wir Innovationsmanagement mit einer prakmatischen Sichtweise, keine Lehrveranstaltung über Metri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s und Innovationen sind enger miteinander verbunden als man auf den ersten Blick glauben ma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h möchte ihnen ein paar praktische Tipps im Umgang mit beiden Begriffen 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between focusing on quality work and focusing on hypes. The latter introduces high 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 Development as an Art, an Engineering Discipline, or a Craftsmen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mentary Asset defini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ose assets that allow a firm to make money, even if the innovation is not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 those networks are the basis for customer-oriented re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 learns how I define hypes and what kind of hypes I am referring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 learn what the risks behind hypes are – what the consequences can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 that hypes are innovations with high promises. Literature defines phases to structure understanding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nowledge Innovation is the creation, exchange, evolution and application of new ideas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able goods and services for the success of an organization, the vitality of a nation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y, and the advancement of society as a whole." (Amidon, 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0168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233600"/>
            <a:ext cx="50292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exciting word for break-through goal is mile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7E8C-C985-4D6E-BE47-4E819F2AC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76160" y="3930480"/>
            <a:ext cx="708660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F0AD-04E2-471D-9F45-6E9F5E345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345816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07480" y="1479240"/>
            <a:ext cx="345816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76160" y="3930480"/>
            <a:ext cx="345816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07480" y="3930480"/>
            <a:ext cx="345816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BBAF-CD8B-4DAD-8BFE-7C457DC3F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228168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72320" y="1479240"/>
            <a:ext cx="228168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68480" y="1479240"/>
            <a:ext cx="228168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76160" y="3930480"/>
            <a:ext cx="228168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72320" y="3930480"/>
            <a:ext cx="228168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68480" y="3930480"/>
            <a:ext cx="228168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2121-E247-4AD0-8F44-FCA2D52135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EE16-5B34-4FFD-BBB3-E7E35254CB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C82D-81F9-4184-8A5D-3AD605137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345816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7480" y="1479240"/>
            <a:ext cx="345816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63F3-CB73-4D8B-A65B-C5137EC4C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C45B-2F0B-4435-AD01-2F05638FB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76160" y="68580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0410-E518-471B-9EA7-E691312C7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345816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7480" y="1479240"/>
            <a:ext cx="345816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76160" y="3930480"/>
            <a:ext cx="345816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638B-08D7-4C4C-80BA-A4106455E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345816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7480" y="1479240"/>
            <a:ext cx="345816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07480" y="3930480"/>
            <a:ext cx="345816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5AE8-1D0F-4E2F-865D-220C5B235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345816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7480" y="1479240"/>
            <a:ext cx="345816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3930480"/>
            <a:ext cx="7086600" cy="223812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01E7-B615-41DA-B8F2-DFC910AE1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51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958680" indent="-19044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301760" indent="-152280">
              <a:spcBef>
                <a:spcPts val="451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1590840" indent="-98640">
              <a:spcBef>
                <a:spcPts val="451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5" marL="1590840" indent="-986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6" marL="1590840" indent="-9864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33520"/>
            <a:ext cx="1295280" cy="6324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638680" y="6400800"/>
            <a:ext cx="323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© Siemens AG, CT SE, Michael Kircher 11/19/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95280" y="0"/>
            <a:ext cx="7848720" cy="5335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33520"/>
            <a:ext cx="380880" cy="6324480"/>
          </a:xfrm>
          <a:prstGeom prst="rect">
            <a:avLst/>
          </a:prstGeom>
          <a:gradFill rotWithShape="0">
            <a:gsLst>
              <a:gs pos="0">
                <a:srgbClr val="cccccc"/>
              </a:gs>
              <a:gs pos="100000">
                <a:srgbClr val="47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1348200" y="4728240"/>
            <a:ext cx="30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 O R P O R A T E   T E C H N O L O G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2920" y="6384960"/>
            <a:ext cx="10263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Hypes and Re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4951080" y="6246360"/>
            <a:ext cx="608040" cy="306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Narrow"/>
              </a:defRPr>
            </a:lvl1pPr>
          </a:lstStyle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5DD8-20C8-4C46-ABD6-57B72176BA91}" type="slidenum">
              <a:rPr b="0" lang="en-US" sz="1000" spc="-1" strike="noStrike">
                <a:solidFill>
                  <a:srgbClr val="336699"/>
                </a:solidFill>
                <a:latin typeface="Arial Narrow"/>
              </a:rPr>
              <a:t>&lt;number&gt;</a:t>
            </a:fld>
            <a:r>
              <a:rPr b="0" lang="en-US" sz="1000" spc="-1" strike="noStrike">
                <a:solidFill>
                  <a:srgbClr val="336699"/>
                </a:solidFill>
                <a:latin typeface="Arial Narrow"/>
              </a:rPr>
              <a:t>/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5960" y="5843520"/>
            <a:ext cx="978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Narrow"/>
              </a:rPr>
              <a:t>Software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Narrow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00"/>
                </a:solidFill>
                <a:latin typeface="Arial Narrow"/>
              </a:rPr>
              <a:t>Archite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57200" y="50371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7358040" y="171360"/>
            <a:ext cx="1092240" cy="18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990360"/>
            <a:ext cx="7010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Keynote</a:t>
            </a:r>
            <a:br>
              <a:rPr sz="2400"/>
            </a:b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Hypes and Reality in Software Development</a:t>
            </a:r>
            <a:br>
              <a:rPr sz="2400"/>
            </a:br>
            <a:r>
              <a:rPr b="1" lang="en-US" sz="1600" spc="-1" strike="noStrike">
                <a:solidFill>
                  <a:srgbClr val="666666"/>
                </a:solidFill>
                <a:latin typeface="Arial"/>
              </a:rPr>
              <a:t>What is the difference between hypes and innovations? </a:t>
            </a:r>
            <a:br>
              <a:rPr sz="1600"/>
            </a:br>
            <a:r>
              <a:rPr b="1" lang="en-US" sz="1600" spc="-1" strike="noStrike">
                <a:solidFill>
                  <a:srgbClr val="666666"/>
                </a:solidFill>
                <a:latin typeface="Arial"/>
              </a:rPr>
              <a:t>How can you identify long-term trends and avoid false investments? </a:t>
            </a:r>
            <a:br>
              <a:rPr sz="1600"/>
            </a:br>
            <a:r>
              <a:rPr b="1" lang="en-US" sz="1600" spc="-1" strike="noStrike">
                <a:solidFill>
                  <a:srgbClr val="666666"/>
                </a:solidFill>
                <a:latin typeface="Arial"/>
              </a:rPr>
              <a:t>Web Services – the next hype?</a:t>
            </a:r>
            <a:endParaRPr b="1" lang="en-US" sz="1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75248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IIR Forum, November 2002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Michael Kircher</a:t>
            </a:r>
            <a:br>
              <a:rPr sz="1800"/>
            </a:b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emens AG,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rporate Technology – Software &amp; Engineering,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Munich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BC9E-D49A-4DA9-BD4E-22E9128FBC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Successful Innovation Management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rovide a fertile ground for innovation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.g. social contract and communication channel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Keep employees motivated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Ensure support from management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oster creativity via creativity techniques, e.g. De Bono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roject the future, e.g. scenario technique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ddress internal resistance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ink about Technology AND People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None can succeed without the other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96080" y="4952880"/>
          <a:ext cx="91440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4952880"/>
                    <a:ext cx="91440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2D56-0ADF-4D21-8F8D-57BEC5144D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Profitability and Best Practice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Uniquenes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Through Intellectual Property, Secrecy, or Speed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Managers believe they can differentiate from competitors only by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new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technologies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t might be more effective and more important to build up a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complementary asset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of knowledge about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established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technologies, in order to build efficient and scalable solutions.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Very often project failure is not the fault of technology, but due to interpersonal relationships and missing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know-how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about technologies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ftware Development as Craftsmenship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ve Parnas: “Software development is both, Software Engineering and Craftsmenship. It needs time to develop.”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oing the right things right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2360-EE52-4E5F-B4AF-9CB52A1039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Too late?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5028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hasm” between “early adopters” and “early majority”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rossing the chasm, Moor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etter do it right, if you are late anyway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0840" y="1322280"/>
            <a:ext cx="0" cy="319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20840" y="4514760"/>
            <a:ext cx="6782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000" y="1555560"/>
            <a:ext cx="3505320" cy="295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5120" y="2021040"/>
            <a:ext cx="2438280" cy="20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3"/>
                </a:moveTo>
                <a:arcTo wR="10800" hR="10800" stAng="-10794608" swAng="5390135"/>
                <a:lnTo>
                  <a:pt x="10800" y="10800"/>
                </a:lnTo>
                <a:close/>
              </a:path>
              <a:path fill="none" w="21600" h="21600">
                <a:moveTo>
                  <a:pt x="0" y="10783"/>
                </a:moveTo>
                <a:arcTo wR="10800" hR="10800" stAng="-10794608" swAng="539013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97720" y="2023920"/>
            <a:ext cx="2437560" cy="202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9460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94608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37440" y="1555560"/>
            <a:ext cx="3504600" cy="295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6680" y="1711440"/>
            <a:ext cx="0" cy="2803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35640" y="1711440"/>
            <a:ext cx="0" cy="2803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73680" y="1711440"/>
            <a:ext cx="0" cy="2803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1711440"/>
            <a:ext cx="0" cy="2803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80600" y="1550880"/>
            <a:ext cx="750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43680" y="4538520"/>
            <a:ext cx="57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1680" y="3838680"/>
            <a:ext cx="102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5960" y="3059280"/>
            <a:ext cx="899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o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89320" y="2514600"/>
            <a:ext cx="810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6000" y="2514600"/>
            <a:ext cx="810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02360" y="3760920"/>
            <a:ext cx="92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gg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920" y="4648320"/>
            <a:ext cx="232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ffusion of Innovations, by Ro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68D6-24C4-433C-B48A-CDDA27314F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The Future of Software Development –</a:t>
            </a:r>
            <a:br>
              <a:rPr sz="2400"/>
            </a:b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 Open Source Software 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oday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oftware Vendors have to sell their product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New versions due to new OS support or new feature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Open-source and free software play a side rol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Most open-source software developers are working for companie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omorrow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Only big and niche software vendors can keep up with open-source product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mall software vendors will have to cover niches or give up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upport and feature development for open-source software on contract basi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pen-source software is no Hype – it is Reality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9913-21EF-4F0A-B37B-E0F4E33ACF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The Future of Software Development – Agility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oday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Most large software development projects with a budget &gt; 1 million $ fail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(Jim Johnson, The Standish Group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maller projects have a significant higher chance to succeed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omorrow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Big software development projects get partitioned into smaller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Agile Methodologies are heavily used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loser customer involvemen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Always have a running system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gile Methodologies, such as Extreme Programming, reflect best practices, still they are hyped about sometime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AFA2-35B8-42A3-AD98-EA584C96E5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Example: Web Services – Some Guesses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Net-manager Magazin 1/2002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Webservices, Softwareanwendungen, die sich über das Internet absurfen lassen.“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Webservices unterstützen unter anderem unternehmerische Prozesse ... mit internetbasierten Lösungen.“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Webservices sind Programme, die automatisch miteinander kommunizieren können“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 manager at XP 2002 conference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xcited manager: “It is about services – you know.”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Me: “But which problem does this solve as opposed to having remote objects?”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5BCB-73F4-4817-B8D0-4996E67E2F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Example: Web Services – A Hype?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mplicity will succeed, software development is already too complex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Web Services promise simplicity: Humans can read the messages exchanged between computers, bu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istributed Systems have a inherent complexity, such as message uniqueness, transactions, security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Web Services will be expected to handle this complexity, and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Become as complex as traditional middlewar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Good for integration, good for coarse-grained communicatio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Need to fix security holes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9D38-E252-4B4D-8B33-CEEF3383F7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Coming Home – It is all about Teamwork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efine your visio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elect somebody driving your effort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Minimize risk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mbrace chang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Look beyond hype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hare your idea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.g., XP practice - pair programming, or Innovation Workshop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et your goals – Break-through goal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Establish communication channels und network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91320" y="2490840"/>
            <a:ext cx="320040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0235-D128-4AFE-BD20-25848CC563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195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Thanks!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195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  <a:p>
            <a:pPr marL="195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Any questions?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30E3-55ED-4B90-8C70-AE20D565EE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Outline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echnology Hype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Innovation Management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esearch and Profitability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Future of Software Development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Example: Web Services – a Hype?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010A-AA5D-46C2-BCEB-F681306B3C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Technology Hypes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mething that is talked about and written about more than it is used.”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Necessary to motivate initial efforts in a new technology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arely a new technology succeeded, that was not a hype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ast and current hypes: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Artificial Intelligence, CORBA, EJB, E-Busines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XML, Web Service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AOSD, P2P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4495680"/>
            <a:ext cx="1828800" cy="1067040"/>
          </a:xfrm>
          <a:prstGeom prst="rect">
            <a:avLst/>
          </a:prstGeom>
          <a:solidFill>
            <a:srgbClr val="bbe0e3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ava succ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RBA succ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thers still need to 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pr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FE28-AA90-4F27-BE65-6230D8026A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The Risk about Hypes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etailed investigation might reveal solely “Hot Air”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What existing problems does the new technology solve (better)?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an this technology become our core business?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Help to escape local over-optimization?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Hypes can generate pitfall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isky usage of unready technology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Over-usage of new technology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Wrong usage of new technology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2" marL="9586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itfalls lead to high cost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E.g., Firemen Actions, Penalties, Lost Trust, Lost Customer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3962520"/>
            <a:ext cx="2057400" cy="129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rtificial Intelligence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could not deliver its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prom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AP as middleware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protoco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5732-0DEF-41B6-810C-51F44BFE70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Gartner Group Hype Cycle (Q4/2001)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25560" y="1727280"/>
            <a:ext cx="6788160" cy="4197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62320" y="2209680"/>
            <a:ext cx="190476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1A27-799A-4EF7-A88B-94623E45A0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Innovation Development Process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76520" y="1447920"/>
            <a:ext cx="1218960" cy="60948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362320" y="2209680"/>
            <a:ext cx="2209680" cy="609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asic and appli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429000" y="2971800"/>
            <a:ext cx="1752480" cy="60948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495680" y="3733920"/>
            <a:ext cx="2286000" cy="60948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rci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715000" y="4495680"/>
            <a:ext cx="1905120" cy="609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Ad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858000" y="5257800"/>
            <a:ext cx="1828800" cy="60948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2600" y="5943600"/>
            <a:ext cx="232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ffusion of Innovations, by Ro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36720" y="4648320"/>
            <a:ext cx="30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Re-invention during ado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68400" y="1523880"/>
            <a:ext cx="496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Technologies consist of tools &amp; skills/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8520" y="2286000"/>
            <a:ext cx="40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pplied research follows basic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72080" y="2895480"/>
            <a:ext cx="325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Putting ideas into a usable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9600" y="3048120"/>
            <a:ext cx="229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kunkworks“ – small</a:t>
            </a:r>
            <a:br>
              <a:rPr sz="1600"/>
            </a:b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ubversive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5240" y="380988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uccessful marketing as</a:t>
            </a:r>
            <a:br>
              <a:rPr sz="1600"/>
            </a:b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technology clu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90440" y="5410080"/>
            <a:ext cx="431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Changes to individuals and social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81680" y="3505320"/>
            <a:ext cx="685800" cy="7617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9160" y="3505320"/>
            <a:ext cx="15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Risk to 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h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4A4E-9975-42FF-90D6-5294C3FEA1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Research for Innovations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iscovering new and improving existing methods and technologies”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rom Inventions to Adoption of Innovation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vention is the process by which a new idea is discovered or created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Adoption is a decision to make full use of an innovation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ypical input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Needs, Trends, Problems, Experience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Expected output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Highly Profitable Innovations</a:t>
            </a:r>
            <a:br>
              <a:rPr sz="1600"/>
            </a:b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(Technologies and Processes)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15200" y="4495680"/>
            <a:ext cx="1446120" cy="15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177D-D822-4FF4-BF4C-8034A7481D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Research – How to get started?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What are break-through goals?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ach a measurable goal within a fixed amount of time and a fixed amount of effor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Early break-through goal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They motivate you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They motivate your customer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They reduce risk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They prove your way successfu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They help you focus on important thing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ack to basics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– XP Explained, K. Beck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mplementing, Testing, Listening to our Customer, Designing, …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44EF-36CD-4A3A-A5C6-69E92BDCC7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The Basis of Innovation Management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479240"/>
            <a:ext cx="708660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41760" anchor="t">
            <a:normAutofit/>
          </a:bodyPr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Understand connection between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novation Management,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Competence Management, and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Product Managemen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195120" indent="-19512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Good practice analysis reviews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dea Management – Idea generation, collecting, analysi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dea Implementation – Support, Processes, Team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Marketing –  Customers, Competitors, Channels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1" marL="577800" indent="-191880">
              <a:spcBef>
                <a:spcPts val="400"/>
              </a:spcBef>
              <a:buClr>
                <a:srgbClr val="3366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novation Climate – Vision, Strategy, Leadership, Motivation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5FAE-C371-422C-AC15-77877FE660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30T08:39:57Z</dcterms:created>
  <dc:creator>Michael Kircher</dc:creator>
  <dc:description/>
  <dc:language>en-US</dc:language>
  <cp:lastModifiedBy>Michael Kircher</cp:lastModifiedBy>
  <dcterms:modified xsi:type="dcterms:W3CDTF">2002-11-18T13:56:22Z</dcterms:modified>
  <cp:revision>272</cp:revision>
  <dc:subject/>
  <dc:title>PowerPoint Presentation</dc:title>
</cp:coreProperties>
</file>