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60001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0800" y="1483920"/>
            <a:ext cx="8862840" cy="209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80800" y="3773520"/>
            <a:ext cx="8862840" cy="209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60001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0800" y="1483920"/>
            <a:ext cx="4325040" cy="209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2560" y="1483920"/>
            <a:ext cx="4325040" cy="209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80800" y="3773520"/>
            <a:ext cx="4325040" cy="209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22560" y="3773520"/>
            <a:ext cx="4325040" cy="209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60001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80800" y="1483920"/>
            <a:ext cx="2853720" cy="209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77440" y="1483920"/>
            <a:ext cx="2853720" cy="209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4440" y="1483920"/>
            <a:ext cx="2853720" cy="209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80800" y="3773520"/>
            <a:ext cx="2853720" cy="209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77440" y="3773520"/>
            <a:ext cx="2853720" cy="209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4440" y="3773520"/>
            <a:ext cx="2853720" cy="209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60001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80800" y="1483920"/>
            <a:ext cx="88628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60001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80800" y="1483920"/>
            <a:ext cx="8862840" cy="438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60001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0800" y="1483920"/>
            <a:ext cx="4325040" cy="438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2560" y="1483920"/>
            <a:ext cx="4325040" cy="438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60001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60001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0800" y="1483920"/>
            <a:ext cx="4325040" cy="209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22560" y="1483920"/>
            <a:ext cx="4325040" cy="438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80800" y="3773520"/>
            <a:ext cx="4325040" cy="209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60001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0800" y="1483920"/>
            <a:ext cx="4325040" cy="438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22560" y="1483920"/>
            <a:ext cx="4325040" cy="209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22560" y="3773520"/>
            <a:ext cx="4325040" cy="209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60001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0800" y="1483920"/>
            <a:ext cx="4325040" cy="209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22560" y="1483920"/>
            <a:ext cx="4325040" cy="209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80800" y="3773520"/>
            <a:ext cx="8862840" cy="209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770880" y="6372360"/>
            <a:ext cx="201564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MCSR 2004, April 14th, Vien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60001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b60001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0800" y="1483920"/>
            <a:ext cx="8862840" cy="438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49"/>
              </a:spcBef>
              <a:spcAft>
                <a:spcPts val="349"/>
              </a:spcAft>
              <a:buClr>
                <a:srgbClr val="b600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349"/>
              </a:spcBef>
              <a:spcAft>
                <a:spcPts val="349"/>
              </a:spcAft>
              <a:buClr>
                <a:srgbClr val="b60001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349"/>
              </a:spcBef>
              <a:spcAft>
                <a:spcPts val="349"/>
              </a:spcAft>
              <a:buClr>
                <a:srgbClr val="b6000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562040" indent="-228600">
              <a:spcBef>
                <a:spcPts val="349"/>
              </a:spcBef>
              <a:spcAft>
                <a:spcPts val="349"/>
              </a:spcAft>
              <a:buClr>
                <a:srgbClr val="b6000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349"/>
              </a:spcBef>
              <a:spcAft>
                <a:spcPts val="349"/>
              </a:spcAft>
              <a:buClr>
                <a:srgbClr val="b60001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601992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094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620400" y="333360"/>
            <a:ext cx="2102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b60001"/>
                </a:solidFill>
                <a:latin typeface="Arial Narrow"/>
              </a:rPr>
              <a:t>INFORMATION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345960"/>
            <a:ext cx="5029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08080"/>
                </a:solidFill>
                <a:latin typeface="Arial Narrow"/>
              </a:rPr>
              <a:t>SEIBERSDORF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95280" y="6093000"/>
            <a:ext cx="26640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attern-driven SW-Development 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 W. Herz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47840" y="596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178120" y="6093000"/>
            <a:ext cx="74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EDAF5C7-DEE1-4178-A111-37CA159B8EE0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3038400" y="6067440"/>
            <a:ext cx="305604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b60001"/>
                </a:solidFill>
                <a:latin typeface="Arial Narrow"/>
              </a:rPr>
              <a:t>Example: "Observer" as Building Block(s)</a:t>
            </a:r>
            <a:endParaRPr b="1" lang="en-US" sz="3200" spc="-1" strike="noStrike">
              <a:solidFill>
                <a:srgbClr val="b60001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2851200" cy="2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Narrow"/>
              </a:rPr>
              <a:t>(without superclasses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27960" y="1989000"/>
            <a:ext cx="7052400" cy="3834720"/>
            <a:chOff x="327960" y="1989000"/>
            <a:chExt cx="7052400" cy="3834720"/>
          </a:xfrm>
        </p:grpSpPr>
        <p:grpSp>
          <p:nvGrpSpPr>
            <p:cNvPr id="50" name=""/>
            <p:cNvGrpSpPr/>
            <p:nvPr/>
          </p:nvGrpSpPr>
          <p:grpSpPr>
            <a:xfrm>
              <a:off x="327960" y="1989000"/>
              <a:ext cx="7052400" cy="3834720"/>
              <a:chOff x="327960" y="1989000"/>
              <a:chExt cx="7052400" cy="3834720"/>
            </a:xfrm>
          </p:grpSpPr>
          <p:grpSp>
            <p:nvGrpSpPr>
              <p:cNvPr id="51" name=""/>
              <p:cNvGrpSpPr/>
              <p:nvPr/>
            </p:nvGrpSpPr>
            <p:grpSpPr>
              <a:xfrm>
                <a:off x="2556000" y="1989000"/>
                <a:ext cx="4824360" cy="3834720"/>
                <a:chOff x="2556000" y="1989000"/>
                <a:chExt cx="4824360" cy="38347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2556000" y="2062080"/>
                  <a:ext cx="4824360" cy="3670200"/>
                </a:xfrm>
                <a:prstGeom prst="rect">
                  <a:avLst/>
                </a:prstGeom>
                <a:solidFill>
                  <a:srgbClr val="ffffcc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4572000" y="2711520"/>
                  <a:ext cx="1322280" cy="520200"/>
                </a:xfrm>
                <a:prstGeom prst="rect">
                  <a:avLst/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code fragment</a:t>
                  </a:r>
                  <a:br>
                    <a:rPr sz="1400"/>
                  </a:b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"ObserverList"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4572000" y="3357360"/>
                  <a:ext cx="1322280" cy="520200"/>
                </a:xfrm>
                <a:prstGeom prst="rect">
                  <a:avLst/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code fragment</a:t>
                  </a:r>
                  <a:br>
                    <a:rPr sz="1400"/>
                  </a:b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"register()"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4572000" y="4005000"/>
                  <a:ext cx="1322280" cy="520200"/>
                </a:xfrm>
                <a:prstGeom prst="rect">
                  <a:avLst/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code fragment</a:t>
                  </a:r>
                  <a:br>
                    <a:rPr sz="1400"/>
                  </a:b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"deregister()"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4428000" y="4682880"/>
                  <a:ext cx="1639080" cy="520200"/>
                </a:xfrm>
                <a:prstGeom prst="rect">
                  <a:avLst/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code fragment</a:t>
                  </a:r>
                  <a:br>
                    <a:rPr sz="1400"/>
                  </a:b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"inform observers"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3329280" y="1989000"/>
                  <a:ext cx="1293120" cy="3070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type "Subject"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5724720" y="1990800"/>
                  <a:ext cx="1502280" cy="3070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type</a:t>
                  </a:r>
                  <a:r>
                    <a:rPr b="1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*</a:t>
                  </a: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 "Observer"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917080" y="5516640"/>
                  <a:ext cx="1698480" cy="3070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pointcut "Changes"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60" name=""/>
                <p:cNvCxnSpPr>
                  <a:stCxn id="53" idx="1"/>
                  <a:endCxn id="57" idx="2"/>
                </p:cNvCxnSpPr>
                <p:nvPr/>
              </p:nvCxnSpPr>
              <p:spPr>
                <a:xfrm rot="10800000">
                  <a:off x="3975840" y="2296080"/>
                  <a:ext cx="596520" cy="67572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61" name=""/>
                <p:cNvCxnSpPr>
                  <a:stCxn id="54" idx="1"/>
                  <a:endCxn id="57" idx="2"/>
                </p:cNvCxnSpPr>
                <p:nvPr/>
              </p:nvCxnSpPr>
              <p:spPr>
                <a:xfrm rot="10800000">
                  <a:off x="3975840" y="2296080"/>
                  <a:ext cx="596520" cy="132156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62" name=""/>
                <p:cNvCxnSpPr>
                  <a:stCxn id="55" idx="1"/>
                  <a:endCxn id="57" idx="2"/>
                </p:cNvCxnSpPr>
                <p:nvPr/>
              </p:nvCxnSpPr>
              <p:spPr>
                <a:xfrm rot="10800000">
                  <a:off x="3975840" y="2295720"/>
                  <a:ext cx="596520" cy="196920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3" name=""/>
                <p:cNvSpPr/>
                <p:nvPr/>
              </p:nvSpPr>
              <p:spPr>
                <a:xfrm>
                  <a:off x="3495240" y="2495520"/>
                  <a:ext cx="965520" cy="307080"/>
                </a:xfrm>
                <a:prstGeom prst="rect">
                  <a:avLst/>
                </a:prstGeom>
                <a:solidFill>
                  <a:srgbClr val="cce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insert rul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64" name=""/>
                <p:cNvCxnSpPr>
                  <a:stCxn id="58" idx="2"/>
                  <a:endCxn id="53" idx="3"/>
                </p:cNvCxnSpPr>
                <p:nvPr/>
              </p:nvCxnSpPr>
              <p:spPr>
                <a:xfrm rot="5400000">
                  <a:off x="5847840" y="2343960"/>
                  <a:ext cx="673920" cy="58176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cxnSp>
              <p:nvCxnSpPr>
                <p:cNvPr id="65" name=""/>
                <p:cNvCxnSpPr>
                  <a:stCxn id="58" idx="2"/>
                  <a:endCxn id="54" idx="3"/>
                </p:cNvCxnSpPr>
                <p:nvPr/>
              </p:nvCxnSpPr>
              <p:spPr>
                <a:xfrm rot="5400000">
                  <a:off x="5524920" y="2666880"/>
                  <a:ext cx="1319760" cy="58176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cxnSp>
              <p:nvCxnSpPr>
                <p:cNvPr id="66" name=""/>
                <p:cNvCxnSpPr>
                  <a:stCxn id="58" idx="2"/>
                  <a:endCxn id="55" idx="3"/>
                </p:cNvCxnSpPr>
                <p:nvPr/>
              </p:nvCxnSpPr>
              <p:spPr>
                <a:xfrm rot="5400000">
                  <a:off x="5201280" y="2990880"/>
                  <a:ext cx="1967400" cy="58176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cxnSp>
              <p:nvCxnSpPr>
                <p:cNvPr id="67" name=""/>
                <p:cNvCxnSpPr>
                  <a:stCxn id="58" idx="2"/>
                  <a:endCxn id="56" idx="3"/>
                </p:cNvCxnSpPr>
                <p:nvPr/>
              </p:nvCxnSpPr>
              <p:spPr>
                <a:xfrm rot="5400000">
                  <a:off x="4948560" y="3416040"/>
                  <a:ext cx="2645280" cy="40896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sp>
              <p:nvSpPr>
                <p:cNvPr id="68" name=""/>
                <p:cNvSpPr/>
                <p:nvPr/>
              </p:nvSpPr>
              <p:spPr>
                <a:xfrm>
                  <a:off x="3056040" y="4689360"/>
                  <a:ext cx="1026720" cy="520200"/>
                </a:xfrm>
                <a:prstGeom prst="rect">
                  <a:avLst/>
                </a:prstGeom>
                <a:solidFill>
                  <a:srgbClr val="cce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insert after</a:t>
                  </a:r>
                  <a:br>
                    <a:rPr sz="1400"/>
                  </a:br>
                  <a:r>
                    <a:rPr b="0" i="1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rul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69" name=""/>
                <p:cNvCxnSpPr>
                  <a:stCxn id="56" idx="1"/>
                  <a:endCxn id="68" idx="3"/>
                </p:cNvCxnSpPr>
                <p:nvPr/>
              </p:nvCxnSpPr>
              <p:spPr>
                <a:xfrm flipH="1">
                  <a:off x="4082760" y="4942800"/>
                  <a:ext cx="345600" cy="68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70" name=""/>
                <p:cNvCxnSpPr>
                  <a:stCxn id="68" idx="1"/>
                  <a:endCxn id="57" idx="1"/>
                </p:cNvCxnSpPr>
                <p:nvPr/>
              </p:nvCxnSpPr>
              <p:spPr>
                <a:xfrm flipH="1" rot="10800000">
                  <a:off x="3055680" y="2142000"/>
                  <a:ext cx="273600" cy="2807280"/>
                </a:xfrm>
                <a:prstGeom prst="bentConnector3">
                  <a:avLst>
                    <a:gd name="adj1" fmla="val -84716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1" name=""/>
                <p:cNvCxnSpPr>
                  <a:stCxn id="59" idx="0"/>
                  <a:endCxn id="68" idx="2"/>
                </p:cNvCxnSpPr>
                <p:nvPr/>
              </p:nvCxnSpPr>
              <p:spPr>
                <a:xfrm flipV="1" rot="16200000">
                  <a:off x="3514320" y="5264280"/>
                  <a:ext cx="307440" cy="197280"/>
                </a:xfrm>
                <a:prstGeom prst="bentConnector3">
                  <a:avLst>
                    <a:gd name="adj1" fmla="val 50058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72" name=""/>
                <p:cNvSpPr/>
                <p:nvPr/>
              </p:nvSpPr>
              <p:spPr>
                <a:xfrm>
                  <a:off x="5576760" y="5373720"/>
                  <a:ext cx="1765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'template' </a:t>
                  </a:r>
                  <a:r>
                    <a:rPr b="1" i="1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Observ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327960" y="2058840"/>
                <a:ext cx="1903680" cy="1316880"/>
                <a:chOff x="327960" y="2058840"/>
                <a:chExt cx="1903680" cy="13168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327960" y="2060640"/>
                  <a:ext cx="747720" cy="3070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type …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238760" y="2058840"/>
                  <a:ext cx="992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paramet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29040" y="2563920"/>
                  <a:ext cx="834480" cy="307080"/>
                </a:xfrm>
                <a:prstGeom prst="rect">
                  <a:avLst/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Code …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239840" y="2563920"/>
                  <a:ext cx="81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ele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28320" y="3068640"/>
                  <a:ext cx="706680" cy="307080"/>
                </a:xfrm>
                <a:prstGeom prst="rect">
                  <a:avLst/>
                </a:prstGeom>
                <a:solidFill>
                  <a:srgbClr val="cce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… </a:t>
                  </a:r>
                  <a:r>
                    <a:rPr b="0" i="1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rul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1240560" y="3067200"/>
                  <a:ext cx="478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rul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>
              <a:off x="4716360" y="2276640"/>
              <a:ext cx="106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000000"/>
                  </a:solidFill>
                  <a:latin typeface="Arial"/>
                </a:rPr>
                <a:t>&lt;&lt;name&gt;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6227280" y="2205000"/>
            <a:ext cx="2594520" cy="1788120"/>
            <a:chOff x="6227280" y="2205000"/>
            <a:chExt cx="2594520" cy="1788120"/>
          </a:xfrm>
        </p:grpSpPr>
        <p:sp>
          <p:nvSpPr>
            <p:cNvPr id="82" name=""/>
            <p:cNvSpPr/>
            <p:nvPr/>
          </p:nvSpPr>
          <p:spPr>
            <a:xfrm>
              <a:off x="7524720" y="2925720"/>
              <a:ext cx="1297080" cy="10674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Arial Narrow"/>
                </a:rPr>
                <a:t>Kleene star '</a:t>
              </a:r>
              <a:r>
                <a:rPr b="1" i="1" lang="de-DE" sz="1600" spc="-1" strike="noStrike">
                  <a:solidFill>
                    <a:srgbClr val="000000"/>
                  </a:solidFill>
                  <a:latin typeface="Arial Narrow"/>
                </a:rPr>
                <a:t>*</a:t>
              </a:r>
              <a:r>
                <a:rPr b="0" i="1" lang="de-DE" sz="1600" spc="-1" strike="noStrike">
                  <a:solidFill>
                    <a:srgbClr val="000000"/>
                  </a:solidFill>
                  <a:latin typeface="Arial Narrow"/>
                </a:rPr>
                <a:t>':</a:t>
              </a:r>
              <a:br>
                <a:rPr sz="1600"/>
              </a:br>
              <a:r>
                <a:rPr b="0" i="1" lang="de-DE" sz="1600" spc="-1" strike="noStrike">
                  <a:solidFill>
                    <a:srgbClr val="000000"/>
                  </a:solidFill>
                  <a:latin typeface="Arial Narrow"/>
                </a:rPr>
                <a:t>list of types</a:t>
              </a:r>
              <a:br>
                <a:rPr sz="1600"/>
              </a:br>
              <a:r>
                <a:rPr b="0" i="1" lang="de-DE" sz="1600" spc="-1" strike="noStrike">
                  <a:solidFill>
                    <a:srgbClr val="000000"/>
                  </a:solidFill>
                  <a:latin typeface="Arial Narrow"/>
                </a:rPr>
                <a:t>of arbitrary leng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flipV="1">
              <a:off x="6227280" y="2205000"/>
              <a:ext cx="172908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78920" y="4437000"/>
            <a:ext cx="2808720" cy="824040"/>
            <a:chOff x="178920" y="4437000"/>
            <a:chExt cx="2808720" cy="824040"/>
          </a:xfrm>
        </p:grpSpPr>
        <p:sp>
          <p:nvSpPr>
            <p:cNvPr id="85" name=""/>
            <p:cNvSpPr/>
            <p:nvPr/>
          </p:nvSpPr>
          <p:spPr>
            <a:xfrm>
              <a:off x="178920" y="4437000"/>
              <a:ext cx="1782360" cy="824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Arial Narrow"/>
                </a:rPr>
                <a:t>inserts code fragment</a:t>
              </a:r>
              <a:br>
                <a:rPr sz="1600"/>
              </a:br>
              <a:r>
                <a:rPr b="0" i="1" lang="de-DE" sz="1600" spc="-1" strike="noStrike">
                  <a:solidFill>
                    <a:srgbClr val="000000"/>
                  </a:solidFill>
                  <a:latin typeface="Arial Narrow"/>
                </a:rPr>
                <a:t>after all join points</a:t>
              </a:r>
              <a:br>
                <a:rPr sz="1600"/>
              </a:br>
              <a:r>
                <a:rPr b="0" i="1" lang="de-DE" sz="1600" spc="-1" strike="noStrike">
                  <a:solidFill>
                    <a:srgbClr val="000000"/>
                  </a:solidFill>
                  <a:latin typeface="Arial Narrow"/>
                </a:rPr>
                <a:t>of given point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979640" y="4868640"/>
              <a:ext cx="10080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b60001"/>
                </a:solidFill>
                <a:latin typeface="Arial Narrow"/>
              </a:rPr>
              <a:t>Usage of Building Block "Observer" </a:t>
            </a:r>
            <a:endParaRPr b="1" lang="en-US" sz="3200" spc="-1" strike="noStrike">
              <a:solidFill>
                <a:srgbClr val="b60001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4920" y="1591920"/>
            <a:ext cx="738828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b600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xample: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peed control in automotive network: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owertrain, diagnostics, and speedometer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have to be informed whenever speed chang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045080" y="2709720"/>
            <a:ext cx="7542360" cy="2971080"/>
            <a:chOff x="1045080" y="2709720"/>
            <a:chExt cx="7542360" cy="2971080"/>
          </a:xfrm>
        </p:grpSpPr>
        <p:grpSp>
          <p:nvGrpSpPr>
            <p:cNvPr id="90" name=""/>
            <p:cNvGrpSpPr/>
            <p:nvPr/>
          </p:nvGrpSpPr>
          <p:grpSpPr>
            <a:xfrm>
              <a:off x="3203640" y="3789360"/>
              <a:ext cx="3240000" cy="1027800"/>
              <a:chOff x="3203640" y="3789360"/>
              <a:chExt cx="3240000" cy="1027800"/>
            </a:xfrm>
          </p:grpSpPr>
          <p:sp>
            <p:nvSpPr>
              <p:cNvPr id="91" name=""/>
              <p:cNvSpPr/>
              <p:nvPr/>
            </p:nvSpPr>
            <p:spPr>
              <a:xfrm>
                <a:off x="3203640" y="3933720"/>
                <a:ext cx="3240000" cy="72072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400560" y="3789360"/>
                <a:ext cx="1293120" cy="3070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type "Subject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788360" y="3790800"/>
                <a:ext cx="1502280" cy="3070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type</a:t>
                </a: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 "Observer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974400" y="4510080"/>
                <a:ext cx="1698480" cy="3070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pointcut "Changes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211640" y="4149720"/>
                <a:ext cx="1364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1400" spc="-1" strike="noStrike">
                    <a:solidFill>
                      <a:srgbClr val="000000"/>
                    </a:solidFill>
                    <a:latin typeface="Arial"/>
                  </a:rPr>
                  <a:t>SpeedChang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1045080" y="3249720"/>
              <a:ext cx="1511280" cy="307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400" spc="-1" strike="noStrike">
                  <a:solidFill>
                    <a:srgbClr val="000000"/>
                  </a:solidFill>
                  <a:latin typeface="Arial"/>
                </a:rPr>
                <a:t>class SpeedCal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6878160" y="2709720"/>
              <a:ext cx="1709280" cy="1386720"/>
              <a:chOff x="6878160" y="2709720"/>
              <a:chExt cx="1709280" cy="1386720"/>
            </a:xfrm>
          </p:grpSpPr>
          <p:sp>
            <p:nvSpPr>
              <p:cNvPr id="98" name=""/>
              <p:cNvSpPr/>
              <p:nvPr/>
            </p:nvSpPr>
            <p:spPr>
              <a:xfrm>
                <a:off x="6986880" y="2709720"/>
                <a:ext cx="1491480" cy="3070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de-DE" sz="1400" spc="-1" strike="noStrike">
                    <a:solidFill>
                      <a:srgbClr val="000000"/>
                    </a:solidFill>
                    <a:latin typeface="Arial"/>
                  </a:rPr>
                  <a:t>class Powertrai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229880" y="3249720"/>
                <a:ext cx="1005120" cy="3070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de-DE" sz="1400" spc="-1" strike="noStrike">
                    <a:solidFill>
                      <a:srgbClr val="000000"/>
                    </a:solidFill>
                    <a:latin typeface="Arial"/>
                  </a:rPr>
                  <a:t>class Dia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878160" y="3789360"/>
                <a:ext cx="1709280" cy="3070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de-DE" sz="1400" spc="-1" strike="noStrike">
                    <a:solidFill>
                      <a:srgbClr val="000000"/>
                    </a:solidFill>
                    <a:latin typeface="Arial"/>
                  </a:rPr>
                  <a:t>class Speedomet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3790800" y="5373720"/>
              <a:ext cx="2065680" cy="3070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r>
                <a:rPr b="0" i="1" lang="de-DE" sz="1400" spc="-1" strike="noStrike">
                  <a:solidFill>
                    <a:srgbClr val="000000"/>
                  </a:solidFill>
                  <a:latin typeface="Arial"/>
                </a:rPr>
                <a:t>( SpeedCalc.speed 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2" name=""/>
            <p:cNvCxnSpPr>
              <a:stCxn id="96" idx="3"/>
              <a:endCxn id="92" idx="0"/>
            </p:cNvCxnSpPr>
            <p:nvPr/>
          </p:nvCxnSpPr>
          <p:spPr>
            <a:xfrm>
              <a:off x="2558520" y="3406320"/>
              <a:ext cx="1490040" cy="383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3" name=""/>
            <p:cNvCxnSpPr>
              <a:stCxn id="99" idx="1"/>
              <a:endCxn id="93" idx="0"/>
            </p:cNvCxnSpPr>
            <p:nvPr/>
          </p:nvCxnSpPr>
          <p:spPr>
            <a:xfrm flipV="1" rot="10800000">
              <a:off x="5539680" y="3405600"/>
              <a:ext cx="1686600" cy="384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" name=""/>
            <p:cNvCxnSpPr>
              <a:stCxn id="100" idx="1"/>
              <a:endCxn id="98" idx="1"/>
            </p:cNvCxnSpPr>
            <p:nvPr/>
          </p:nvCxnSpPr>
          <p:spPr>
            <a:xfrm flipH="1" rot="10800000">
              <a:off x="6876720" y="2866320"/>
              <a:ext cx="108720" cy="1080360"/>
            </a:xfrm>
            <a:prstGeom prst="bentConnector3">
              <a:avLst>
                <a:gd name="adj1" fmla="val -21162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" name=""/>
            <p:cNvCxnSpPr>
              <a:stCxn id="101" idx="0"/>
              <a:endCxn id="94" idx="2"/>
            </p:cNvCxnSpPr>
            <p:nvPr/>
          </p:nvCxnSpPr>
          <p:spPr>
            <a:xfrm flipV="1">
              <a:off x="4824000" y="4824000"/>
              <a:ext cx="1080" cy="550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b60001"/>
                </a:solidFill>
                <a:latin typeface="Arial Narrow"/>
              </a:rPr>
              <a:t>Usage of Building Block "Observer" </a:t>
            </a:r>
            <a:endParaRPr b="1" lang="en-US" sz="3200" spc="-1" strike="noStrike">
              <a:solidFill>
                <a:srgbClr val="b60001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612144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600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xample: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-mail server: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various clients have to be informed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ever mail for the clients' owner arriv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044720" y="2709720"/>
            <a:ext cx="7324920" cy="2971080"/>
            <a:chOff x="1044720" y="2709720"/>
            <a:chExt cx="7324920" cy="2971080"/>
          </a:xfrm>
        </p:grpSpPr>
        <p:sp>
          <p:nvSpPr>
            <p:cNvPr id="109" name=""/>
            <p:cNvSpPr/>
            <p:nvPr/>
          </p:nvSpPr>
          <p:spPr>
            <a:xfrm>
              <a:off x="3276720" y="3933720"/>
              <a:ext cx="3146400" cy="72072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00560" y="3789360"/>
              <a:ext cx="129312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type "Subject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88360" y="3790800"/>
              <a:ext cx="150228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"Observer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53520" y="4510080"/>
              <a:ext cx="169848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ointcut "Changes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78320" y="4149720"/>
              <a:ext cx="89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000000"/>
                  </a:solidFill>
                  <a:latin typeface="Arial"/>
                </a:rPr>
                <a:t>NewMai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44720" y="3249720"/>
              <a:ext cx="1491480" cy="307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400" spc="-1" strike="noStrike">
                  <a:solidFill>
                    <a:srgbClr val="000000"/>
                  </a:solidFill>
                  <a:latin typeface="Arial"/>
                </a:rPr>
                <a:t>class MailSer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987600" y="2709720"/>
              <a:ext cx="1302480" cy="307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400" spc="-1" strike="noStrike">
                  <a:solidFill>
                    <a:srgbClr val="000000"/>
                  </a:solidFill>
                  <a:latin typeface="Arial"/>
                </a:rPr>
                <a:t>Outlook Cli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226280" y="3249720"/>
              <a:ext cx="801720" cy="307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78160" y="3789360"/>
              <a:ext cx="1491480" cy="307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400" spc="-1" strike="noStrike">
                  <a:solidFill>
                    <a:srgbClr val="000000"/>
                  </a:solidFill>
                  <a:latin typeface="Arial"/>
                </a:rPr>
                <a:t>Internet Brows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31360" y="5373720"/>
              <a:ext cx="4943160" cy="3070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000000"/>
                  </a:solidFill>
                  <a:latin typeface="Arial"/>
                </a:rPr>
                <a:t>MailServer.List.add( mail) AND mail.to == Observer.Us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9" name=""/>
            <p:cNvCxnSpPr>
              <a:stCxn id="114" idx="3"/>
              <a:endCxn id="110" idx="0"/>
            </p:cNvCxnSpPr>
            <p:nvPr/>
          </p:nvCxnSpPr>
          <p:spPr>
            <a:xfrm>
              <a:off x="2538360" y="3406320"/>
              <a:ext cx="1510560" cy="383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0" name=""/>
            <p:cNvCxnSpPr>
              <a:stCxn id="116" idx="1"/>
              <a:endCxn id="111" idx="0"/>
            </p:cNvCxnSpPr>
            <p:nvPr/>
          </p:nvCxnSpPr>
          <p:spPr>
            <a:xfrm flipV="1" rot="10800000">
              <a:off x="5539680" y="3405600"/>
              <a:ext cx="1686600" cy="384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1" name=""/>
            <p:cNvCxnSpPr>
              <a:stCxn id="117" idx="1"/>
              <a:endCxn id="115" idx="1"/>
            </p:cNvCxnSpPr>
            <p:nvPr/>
          </p:nvCxnSpPr>
          <p:spPr>
            <a:xfrm flipH="1" rot="10800000">
              <a:off x="6876720" y="2866320"/>
              <a:ext cx="108720" cy="1080360"/>
            </a:xfrm>
            <a:prstGeom prst="bentConnector3">
              <a:avLst>
                <a:gd name="adj1" fmla="val -21162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2" name=""/>
            <p:cNvCxnSpPr>
              <a:stCxn id="118" idx="0"/>
              <a:endCxn id="112" idx="2"/>
            </p:cNvCxnSpPr>
            <p:nvPr/>
          </p:nvCxnSpPr>
          <p:spPr>
            <a:xfrm flipV="1">
              <a:off x="4803480" y="4824000"/>
              <a:ext cx="1080" cy="550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4T15:16:10Z</dcterms:created>
  <dc:creator>Michael Thuswald</dc:creator>
  <dc:description/>
  <cp:keywords>Object oriented software engineering patterns</cp:keywords>
  <dc:language>en-US</dc:language>
  <cp:lastModifiedBy>Herzner Wolfgang</cp:lastModifiedBy>
  <cp:lastPrinted>2001-10-14T15:21:53Z</cp:lastPrinted>
  <dcterms:modified xsi:type="dcterms:W3CDTF">2004-06-22T11:55:10Z</dcterms:modified>
  <cp:revision>177</cp:revision>
  <dc:subject>München 21.-26.1.2002</dc:subject>
  <dc:title>OOP 200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54370402</vt:r8>
  </property>
  <property fmtid="{D5CDD505-2E9C-101B-9397-08002B2CF9AE}" pid="3" name="_AuthorEmail">
    <vt:lpwstr>Wolfgang.Herzner@arcs.ac.at</vt:lpwstr>
  </property>
  <property fmtid="{D5CDD505-2E9C-101B-9397-08002B2CF9AE}" pid="4" name="_AuthorEmailDisplayName">
    <vt:lpwstr>Herzner Wolfgang</vt:lpwstr>
  </property>
  <property fmtid="{D5CDD505-2E9C-101B-9397-08002B2CF9AE}" pid="5" name="_EmailSubject">
    <vt:lpwstr>Re: EuroPLoP 2004 Focus Group: Handling Crosscutting Concerns with Patterns</vt:lpwstr>
  </property>
</Properties>
</file>